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2.png" ContentType="image/png"/>
  <Override PartName="/ppt/media/image7.wmf" ContentType="image/x-wmf"/>
  <Override PartName="/ppt/media/image11.wmf" ContentType="image/x-wmf"/>
  <Override PartName="/ppt/media/image26.png" ContentType="image/png"/>
  <Override PartName="/ppt/media/image9.wmf" ContentType="image/x-wmf"/>
  <Override PartName="/ppt/media/image8.png" ContentType="image/png"/>
  <Override PartName="/ppt/media/image16.wmf" ContentType="image/x-wmf"/>
  <Override PartName="/ppt/media/image10.wmf" ContentType="image/x-wmf"/>
  <Override PartName="/ppt/media/image25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3.wmf" ContentType="image/x-wmf"/>
  <Override PartName="/ppt/media/image27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4.5-</a:t>
            </a:r>
            <a:fld id="{F2CB8479-7C3B-44A3-892C-BEDD89A5AF15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55640" y="0"/>
            <a:ext cx="5832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2104920" y="343080"/>
              <a:ext cx="4934160" cy="6172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Determining a Horizontal Asymptote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numerator and the denominator of a rational function have the same degree, the lin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/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horizontal asymptote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leading coefficients of the numerator and the denominator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degree of the numerator of a rational function is less than the degree of the denominator,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,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, is the horizontal asympto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degree of the numerator of a rational function is greater than the degree of the denominator, there is no horizontal asympto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rue Statemen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488600"/>
            <a:ext cx="8077320" cy="29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ph of a rational function never crosses a vertical asympto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ph of a rational function might cross a horizontal asymptote but does not necessarily do 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ical asymptote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3 = 0, s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gree of the numerator and denominator is the same. Thu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, is the horizontal asympto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Draw the asymptotes with dashed li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Compute and plot some ordered pairs and draw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ur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104920" y="914400"/>
          <a:ext cx="18115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4920" y="914400"/>
                    <a:ext cx="18115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284120" y="1752480"/>
            <a:ext cx="1570320" cy="3189240"/>
            <a:chOff x="1284120" y="1752480"/>
            <a:chExt cx="1570320" cy="3189240"/>
          </a:xfrm>
        </p:grpSpPr>
        <p:sp>
          <p:nvSpPr>
            <p:cNvPr id="126" name=""/>
            <p:cNvSpPr/>
            <p:nvPr/>
          </p:nvSpPr>
          <p:spPr>
            <a:xfrm>
              <a:off x="2069280" y="4486320"/>
              <a:ext cx="7848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/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84120" y="4486320"/>
              <a:ext cx="7851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69280" y="4030560"/>
              <a:ext cx="7848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84120" y="4030560"/>
              <a:ext cx="7851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69280" y="3574800"/>
              <a:ext cx="7848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84120" y="3574800"/>
              <a:ext cx="7851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69280" y="3119400"/>
              <a:ext cx="7848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84120" y="3119400"/>
              <a:ext cx="7851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69280" y="2663640"/>
              <a:ext cx="7848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84120" y="2663640"/>
              <a:ext cx="7851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2208240"/>
              <a:ext cx="7848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84120" y="2208240"/>
              <a:ext cx="7851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69280" y="1752480"/>
              <a:ext cx="7848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4120" y="1752480"/>
              <a:ext cx="7851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84120" y="1752480"/>
              <a:ext cx="1570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84120" y="2208240"/>
              <a:ext cx="157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84120" y="2663640"/>
              <a:ext cx="157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84120" y="3119400"/>
              <a:ext cx="157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84120" y="4941720"/>
              <a:ext cx="1570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84120" y="1752480"/>
              <a:ext cx="0" cy="31892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69280" y="1752480"/>
              <a:ext cx="0" cy="318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54440" y="1752480"/>
              <a:ext cx="0" cy="31892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84120" y="3574800"/>
              <a:ext cx="157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84120" y="4030560"/>
              <a:ext cx="157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84120" y="4486320"/>
              <a:ext cx="157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3333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blique or Slant Asymptot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8076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the asymptotes of                         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i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is a vertical asympt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horizontal asymptote because the degree of the numerator is greater than the degree of the denomin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419720" y="1371600"/>
          <a:ext cx="2349360" cy="7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371600"/>
                    <a:ext cx="234936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1066680" y="4651200"/>
          <a:ext cx="434340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651200"/>
                    <a:ext cx="43434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blique or Slant Asymptote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88560" y="1523880"/>
            <a:ext cx="3963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to find an equivalent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268600" y="1523880"/>
            <a:ext cx="36464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ine 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= 2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  oblique asympt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28880" y="2590920"/>
          <a:ext cx="3848040" cy="68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8880" y="2590920"/>
                    <a:ext cx="384804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1209600" y="3556080"/>
          <a:ext cx="1990800" cy="227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09600" y="3556080"/>
                    <a:ext cx="199080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5353200" y="236232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391520" y="22860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00400" y="2590920"/>
            <a:ext cx="914400" cy="685800"/>
          </a:xfrm>
          <a:prstGeom prst="ellipse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962520" y="1828800"/>
            <a:ext cx="1295280" cy="83808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Occurrence of Lines as Asymptotes of Rational Function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rational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have no common factors other than consta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rtical asympto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ccur at an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values that make the denominator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axis is the horizontal asympto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the degree of the numerator is less than the degree of the denomin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horizontal asymptote other than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ax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ccurs when the numerator and the denominator have the same deg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Occurrence of Lines as Asymptotes of Rational Functions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oblique asympto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ccurs when the degree of the numerator is 1 greater than the degree of the denomin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can be only one horizontal asymptote or one oblique asymptote and never bo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symptote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of the graph of the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aphing Rational Fun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.  Find the real zeros of the denominator. Determine the domain of the function and sketch any vertical asymptot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nd the horizontal or oblique asymptote, if there is one,             and sketch 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nd the zeros of the function. The zeros are found by determining the zeros of the numerator. These are the first coordinates of 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intercepts of the grap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0). This gives 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intercept (0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0)), of the fun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nd other function values to determine the general shape. Then draw the grap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54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Find the zeros by solv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eros a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 and 3, thus the domain excludes these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aph has vertical asymptotes 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. We sketch these with dashed l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the degree of the numerator is less than the degree of  the denominator,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axi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, is the horizontal asympt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057400" y="1025640"/>
          <a:ext cx="224172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025640"/>
                    <a:ext cx="2241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2490840" y="2549520"/>
          <a:ext cx="3300480" cy="8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90840" y="2549520"/>
                    <a:ext cx="330048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TER 4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Polynomial and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Rational Function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440" y="26665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1 Polynomial Functions and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2 Graphing Polynom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3 Polynomial Division; The Remainder and Factor Theor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4 Theorems about Zeros of Polynom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5 Ration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6 Polynomial and Rational Inequ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find the zeros of the numerator, we solv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+ 3 = 0 and ge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. Thus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 is the zero of the function, and the pair 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, 0) is 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intercep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 fi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0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us (0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) is 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intercep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895480" y="3124080"/>
          <a:ext cx="2971800" cy="17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124080"/>
                    <a:ext cx="2971800" cy="17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9960" y="1523880"/>
            <a:ext cx="3963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 find other function values to determine the general shape of the graph and then draw the grap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333600" cy="333360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2286000" y="3733920"/>
            <a:ext cx="1569960" cy="2286000"/>
            <a:chOff x="2286000" y="3733920"/>
            <a:chExt cx="1569960" cy="2286000"/>
          </a:xfrm>
        </p:grpSpPr>
        <p:sp>
          <p:nvSpPr>
            <p:cNvPr id="189" name=""/>
            <p:cNvSpPr/>
            <p:nvPr/>
          </p:nvSpPr>
          <p:spPr>
            <a:xfrm>
              <a:off x="3071160" y="5562720"/>
              <a:ext cx="784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/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0" y="5562720"/>
              <a:ext cx="785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71160" y="5105520"/>
              <a:ext cx="784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86000" y="5105520"/>
              <a:ext cx="785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71160" y="4648320"/>
              <a:ext cx="784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/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86000" y="4648320"/>
              <a:ext cx="785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71160" y="4191120"/>
              <a:ext cx="784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86000" y="4191120"/>
              <a:ext cx="785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071160" y="3733920"/>
              <a:ext cx="784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86000" y="3733920"/>
              <a:ext cx="785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86000" y="3733920"/>
              <a:ext cx="15699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86000" y="4191120"/>
              <a:ext cx="156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86000" y="4648320"/>
              <a:ext cx="156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0" y="5105520"/>
              <a:ext cx="156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86000" y="6019920"/>
              <a:ext cx="15699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86000" y="3733920"/>
              <a:ext cx="0" cy="2286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71160" y="373392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55960" y="3733920"/>
              <a:ext cx="0" cy="2286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86000" y="5562720"/>
              <a:ext cx="156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ore Examp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the following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600200" y="1981080"/>
          <a:ext cx="192888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981080"/>
                    <a:ext cx="19288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00200" y="3352680"/>
          <a:ext cx="19652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352680"/>
                    <a:ext cx="19652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4724280"/>
          <a:ext cx="1773000" cy="91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724280"/>
                    <a:ext cx="1773000" cy="9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aph a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889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ical Asympt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rizontal Asympt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nter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,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/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257800" y="1981080"/>
            <a:ext cx="3333600" cy="3333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3962520" y="228600"/>
          <a:ext cx="192852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2520" y="228600"/>
                    <a:ext cx="1928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aph b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39639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Vertical Asympt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Horizontal Asympt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nter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828,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y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/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952880" y="1981080"/>
            <a:ext cx="3333960" cy="3333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3200400" y="228600"/>
          <a:ext cx="196524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228600"/>
                    <a:ext cx="19652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aph c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39639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Vertical Asympt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Oblique Asympt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nter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0,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y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105520" y="2057400"/>
            <a:ext cx="3333600" cy="333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9" name=""/>
          <p:cNvGraphicFramePr/>
          <p:nvPr/>
        </p:nvGraphicFramePr>
        <p:xfrm>
          <a:off x="3352680" y="228600"/>
          <a:ext cx="1773360" cy="91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228600"/>
                    <a:ext cx="177336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4.5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ational Functions</a:t>
            </a:r>
            <a:br>
              <a:rPr sz="3600"/>
            </a:b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907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rational function, find the domain and graph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unction, identifying all of the asympto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applied problems involving rati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ational Fun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rational fun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is a quotient of two polynomials, that i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re polynomials and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not the zero polynomial. The domai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ists of all inpu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whi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0"/>
          <a:ext cx="914400" cy="2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743200" y="2448000"/>
          <a:ext cx="1981080" cy="98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448000"/>
                    <a:ext cx="19810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88560" y="1523880"/>
            <a:ext cx="3963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          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domain and grap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denominat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4 = 0, we ha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 so the only input that results in a denominator of 0 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Thus the domain is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} or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27400" y="1523520"/>
            <a:ext cx="3963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aph of the function is      the graph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nslated    to the left 4 un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286000" y="1447920"/>
          <a:ext cx="1444680" cy="68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447920"/>
                    <a:ext cx="144468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124600" y="2895480"/>
            <a:ext cx="33336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Vertical Asymptot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vertical asympto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rational function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re found by determining the zeros      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hat are not also zero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re polynomials with no common factors other than constants, we need to determine only the zeros of     the denomina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zero of the denominator but not the numerator, then the l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vertical asympto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the graph of the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267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the vertical asymptotes of the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 to find the zeros of the denominato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 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)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 the vertical asymptotes are the lin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and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47920" y="2209680"/>
          <a:ext cx="1566720" cy="6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156672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029200" y="167652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orizontal Asymptot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3152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horizontal asymptote for 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either or both of the following are tr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numerator and the denominator of a rational function have the same degree, the l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/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horizontal asymptote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leading coefficients of the numerator and the denominator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219320" y="2590920"/>
          <a:ext cx="6657840" cy="4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90920"/>
                    <a:ext cx="665784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orizontal Asymptot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8487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nd the horizontal asymptot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erator and denominator have the same degree. The ratio of the leading coefficients is 6/9, so the l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/3 is the horizontal asympto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496960" y="2133720"/>
          <a:ext cx="262584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6960" y="2133720"/>
                    <a:ext cx="262584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dc:language>en-US</dc:language>
  <cp:lastModifiedBy>Jennifer Thomas</cp:lastModifiedBy>
  <dcterms:modified xsi:type="dcterms:W3CDTF">2008-04-07T13:38:15Z</dcterms:modified>
  <cp:revision>191</cp:revision>
  <dc:subject/>
  <dc:title>No Slide Title</dc:title>
</cp:coreProperties>
</file>